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7A2-4229-4BD3-BD68-A76FE955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B16-7F0D-4663-8973-5E8A1DA6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D1D-ECA2-44BD-8C26-CFEA2A9A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907-061B-4401-ACB0-90CB4B2F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3EB-B5C3-47A0-B965-D1450CE3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05B-EF66-4928-B146-545C0A3A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25D-D0FF-4B7F-976E-9CFA80EF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897-1C4C-48FD-91E8-496D1CAC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CFB-6D5B-4BF6-875C-CC57BCD6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713-4F75-4D94-90E0-29B2F0C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909-B850-473D-B586-341A200A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757-A379-4434-8484-85818890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1F17-FE50-4161-8787-F39ADE577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2560" y="17604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960" y="2286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839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20048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720" y="2211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 Firm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0" y="15256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13190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1240" y="1014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319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6480" y="185256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1960" y="17002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1960" y="208116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7858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14716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1574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1640" y="739800"/>
            <a:ext cx="1308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6600" y="739800"/>
            <a:ext cx="149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3760" y="1425600"/>
            <a:ext cx="122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.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0520" y="2111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c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0480" y="21114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aw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1425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3640" y="739800"/>
            <a:ext cx="116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ignal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80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from 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47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106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876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760" y="914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120" y="533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3:18:40Z</dcterms:created>
  <dc:creator>John Kostogiannis</dc:creator>
  <dc:description/>
  <dc:language>en-US</dc:language>
  <cp:lastModifiedBy>John Kostogiannis</cp:lastModifiedBy>
  <dcterms:modified xsi:type="dcterms:W3CDTF">1999-09-12T11:03:12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