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226676"/>
        <c:axId val="55681090"/>
      </c:barChart>
      <c:catAx>
        <c:axId val="292266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681090"/>
        <c:crosses val="autoZero"/>
        <c:auto val="1"/>
        <c:lblAlgn val="ctr"/>
        <c:lblOffset val="100"/>
        <c:noMultiLvlLbl val="0"/>
      </c:catAx>
      <c:valAx>
        <c:axId val="556810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2266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7848-ED25-4350-910D-E9DBDBB84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3D1B-75B4-47B5-9124-DB2943B2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D68F-6C72-42FD-AA5A-3F69BE50E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307D-DDB7-40C8-B74E-B29E5313C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B3B3-5CC1-4BB6-8A45-6E05287A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1473-26EC-4922-828B-500BC83D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190D-9249-47F8-9E71-33B0BFA8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C410-F9E9-4427-8369-FAA7322C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B039-5A85-4FE8-A3B2-D7DFC7B6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8062-84C8-40D0-AD1D-319071CC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B152-09AD-41EE-98C1-87B3E00F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ADA5-ECE4-48DF-B013-EA948B90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163152-9FE7-4B1D-ABC7-1525D122A8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